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61529"/>
        <c:axId val="4476363"/>
      </c:barChart>
      <c:catAx>
        <c:axId val="36861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363"/>
        <c:crosses val="autoZero"/>
        <c:auto val="1"/>
        <c:lblAlgn val="ctr"/>
        <c:lblOffset val="100"/>
        <c:noMultiLvlLbl val="0"/>
      </c:catAx>
      <c:valAx>
        <c:axId val="4476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1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EF0-A71B-43EE-93BC-BD0DFE27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4B8-A5BA-4B6B-B20E-6DC3139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39B-034C-46E7-B40A-500AE76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CBC-9C68-4715-812C-5A11BFFF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51E-7E83-4A16-86DB-60EF19C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AA5-6E6E-49CF-9F98-2B4A1E8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F89-9849-4CE3-B723-FE8D8B69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7A4-7168-4760-B240-36D7AEA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59E-CF84-4F28-8386-40255FC7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F3C-6ED4-487C-8658-DF3A91C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3D4-0B5B-48D6-8E33-686318B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5C9-F692-409C-82B4-EB11EC75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F6FD1-14BE-49B8-87EF-15BE9221F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