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25890"/>
        <c:axId val="76268616"/>
      </c:barChart>
      <c:catAx>
        <c:axId val="94925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68616"/>
        <c:crosses val="autoZero"/>
        <c:auto val="1"/>
        <c:lblAlgn val="ctr"/>
        <c:lblOffset val="100"/>
        <c:noMultiLvlLbl val="0"/>
      </c:catAx>
      <c:valAx>
        <c:axId val="76268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5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C2B-4F0E-46A3-952D-1C6A1BA0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F33-9B3B-4DC1-B5F1-8AEEB462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586-966E-4349-8C68-CCEB81DB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56E-2050-48B0-AAC6-2C401CED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6FA-240A-471D-915C-BEC5217A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E8F-E112-4A54-9046-3E0DCC8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7C6-7CB9-4A8C-9E83-4A27F01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329-C480-4C4D-BDF4-AF72A01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C31-F1EB-4772-A3C7-787DCAEB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EBC-8C0D-451C-945F-4BF66229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B50-4929-46B1-87DE-02A9AA7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FDC-F129-4BF9-BE03-4F75BC8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EABA-3FD1-4D0E-9BEE-872370D23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