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24915"/>
        <c:axId val="33567295"/>
      </c:barChart>
      <c:catAx>
        <c:axId val="66824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67295"/>
        <c:crosses val="autoZero"/>
        <c:auto val="1"/>
        <c:lblAlgn val="ctr"/>
        <c:lblOffset val="100"/>
        <c:noMultiLvlLbl val="0"/>
      </c:catAx>
      <c:valAx>
        <c:axId val="33567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24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7F6-21CD-4C01-A7EE-6BD42CB0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444-399E-4323-8E65-7F5995F4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C03-4536-44B9-A30C-F5E6F830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29E-F954-4B87-8439-85E39460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8B2-191A-49B2-B0CC-23B6A34D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3C7-339F-4CE3-B583-D70FD306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1C9-300C-4D47-8B40-8041CC5B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E52-9892-4A0C-B1C9-89C387DD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965-69EF-41F8-91AA-9213E6C0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026-D2ED-4B0B-BD61-3F62070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D10-CEE8-48CE-AF60-7E572A03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C32-AA63-4A61-B7E5-45D1E16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EA69D-3C06-46FE-9723-F85D5C3BE6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