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22441"/>
        <c:axId val="18984928"/>
      </c:barChart>
      <c:catAx>
        <c:axId val="57222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84928"/>
        <c:crosses val="autoZero"/>
        <c:auto val="1"/>
        <c:lblAlgn val="ctr"/>
        <c:lblOffset val="100"/>
        <c:noMultiLvlLbl val="0"/>
      </c:catAx>
      <c:valAx>
        <c:axId val="18984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22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DB3-352D-4C34-B1C4-CB4FB46B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D40-80B9-47D1-9A04-F9C5DD90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184-F102-4DE0-B875-C6DFCE77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ADA-8E9D-4A12-8F58-84690A76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16A-4062-4CAA-966F-143DA761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7B6-898D-47F3-AA98-752D5E23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731-350C-4E66-BD95-2B85CC84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59E-5C69-4949-A1C3-D0355381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DED-DCAA-49E1-9CE1-525216B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89A-5335-47E0-BF21-740B0AF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97B-E31C-4CB1-ACA9-DE46A03A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700-FDDD-4E8E-9C84-1E548071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63383-242A-4A89-89FD-3A0F2FFBC1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