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698"/>
        <c:axId val="75570809"/>
      </c:barChart>
      <c:catAx>
        <c:axId val="9649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0809"/>
        <c:crosses val="autoZero"/>
        <c:auto val="1"/>
        <c:lblAlgn val="ctr"/>
        <c:lblOffset val="100"/>
        <c:noMultiLvlLbl val="0"/>
      </c:catAx>
      <c:valAx>
        <c:axId val="75570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DBB-EFC3-42AF-BDE6-702A2F4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E3D-FC3B-4D9E-B73D-1B9C31B1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877-0E9E-4998-9417-2FCE1FC1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689-AAD2-459D-83BF-E4502E1E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98E-4786-4807-ACF2-A0AAD342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227-50D1-4A97-91DD-6342D77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355-35E1-4F79-A9AF-EF85B4E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5D1-A0AD-44C1-965D-5AC14F3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6B2-9FB6-47EE-A52C-DCAB265C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B6A-5A14-43F1-AC09-D6510E4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08C-7A34-4BEA-A21C-5D504DA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935-491C-459F-966A-CDB7980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D347-6BDE-427D-B1A5-105D8A376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