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09472"/>
        <c:axId val="13172053"/>
      </c:barChart>
      <c:catAx>
        <c:axId val="20609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72053"/>
        <c:crosses val="autoZero"/>
        <c:auto val="1"/>
        <c:lblAlgn val="ctr"/>
        <c:lblOffset val="100"/>
        <c:noMultiLvlLbl val="0"/>
      </c:catAx>
      <c:valAx>
        <c:axId val="13172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09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013-0575-472A-8D22-28997D15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836-2888-49A3-82E0-50D6A13C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8E6-4ABD-4215-845D-D1627C8E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0C5-ADC5-48A2-B643-5F7D9599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99F-606C-4BFE-8532-AA756231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BC9-88D9-4855-A8D2-FB5A32AA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2DC-087D-4576-9B0B-97E74CC7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0C1-AB0C-4E76-8101-F39C7B0A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D1E-ACE0-4122-8F20-560C6447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20C-72AC-477A-A426-48C8E66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656-E008-469F-9621-FAA3A90A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826-7C35-4A67-979B-CA4CA6F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3B72C-2CFC-45AE-8996-E180D0AAA2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