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94562"/>
        <c:axId val="48893288"/>
      </c:barChart>
      <c:catAx>
        <c:axId val="21094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93288"/>
        <c:crosses val="autoZero"/>
        <c:auto val="1"/>
        <c:lblAlgn val="ctr"/>
        <c:lblOffset val="100"/>
        <c:noMultiLvlLbl val="0"/>
      </c:catAx>
      <c:valAx>
        <c:axId val="48893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94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159-ED1C-4437-A21F-B6149A2F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EDB-D06F-45AD-A7CC-EB13EC49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CCA-3F21-4284-8836-2653F1DB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0AA-A713-4295-842C-508DFC1E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D38-EC17-4CEE-8271-797C9FB4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50B-4C96-4F93-AF96-0F07473C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042-076F-409D-AB36-C908873B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3D8-A73F-4AEA-8CBF-9A4E866D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F8A-8B07-470D-AA5A-1028591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095-E5A8-4EE0-BFCD-A2B08A3F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CFD-3395-4D0E-856D-B3419E6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D78-9D53-4B8B-B21E-C0A2DD3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EA794-CACB-42E1-AFDD-94D4A12DD8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