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03834"/>
        <c:axId val="30554125"/>
      </c:barChart>
      <c:catAx>
        <c:axId val="74503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54125"/>
        <c:crosses val="autoZero"/>
        <c:auto val="1"/>
        <c:lblAlgn val="ctr"/>
        <c:lblOffset val="100"/>
        <c:noMultiLvlLbl val="0"/>
      </c:catAx>
      <c:valAx>
        <c:axId val="30554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03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C92-FE21-41B7-A03B-055B0D18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6DD-D095-4319-9852-0AC0BED3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DB1-CFE8-4FE5-A2ED-1D39F108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A2B-2F7C-431C-9E6A-9D3197D6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3A3-DA5A-432E-99D8-57AB16D6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07A-A34D-4A2D-BA16-50B057CD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560-9DBA-456B-B27F-32A8BF72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A59-E2D4-4767-B39E-F9BE1CFF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1D1-DBB4-4861-BB2D-D2E5FC51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B5C-E2B0-4F4F-AA91-4B7DBD3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E9A-16F6-4B1A-9E0E-9C28709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7EE-1C7F-43EE-9941-3DD0837E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2BFA4-762E-4808-A60B-67AD940F4D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