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98673"/>
        <c:axId val="12423694"/>
      </c:barChart>
      <c:catAx>
        <c:axId val="28598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23694"/>
        <c:crosses val="autoZero"/>
        <c:auto val="1"/>
        <c:lblAlgn val="ctr"/>
        <c:lblOffset val="100"/>
        <c:noMultiLvlLbl val="0"/>
      </c:catAx>
      <c:valAx>
        <c:axId val="12423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8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339-ECA8-4D76-BC16-5333ACED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CC3-ED71-4B81-BF17-E448AAE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D6B-8F33-4FD5-8BE5-FBD48BB2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0D7-AF63-4CA4-8E2C-F6D85E54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921-04E5-472C-8576-2EEC833C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F42-8465-4FEF-8164-DFF889A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8DB-A1B4-4290-9DDE-44597636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318-9D14-4B43-B612-F9E4E72D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D2C-F4DD-420C-AD2C-ED0C414E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128-C2E0-4BD2-AA06-762F65D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379-21A1-4B6D-8B7F-A8D50AA6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91A-65C2-495D-87BE-1E710288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E3890-4CA2-43F0-8A3F-2609CD8E3A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