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42182"/>
        <c:axId val="23931981"/>
      </c:barChart>
      <c:catAx>
        <c:axId val="21342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31981"/>
        <c:crosses val="autoZero"/>
        <c:auto val="1"/>
        <c:lblAlgn val="ctr"/>
        <c:lblOffset val="100"/>
        <c:noMultiLvlLbl val="0"/>
      </c:catAx>
      <c:valAx>
        <c:axId val="23931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42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809-5463-4872-B135-D920FADB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CCE-E43B-4A6A-BA83-4BC77064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66B-7C44-4FC4-8460-E18174B2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B16-A21D-426C-BEB5-E10A42C4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DDD-76D0-46E7-8B81-4C3F3AA6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352-3114-4D5D-8B34-6D13A07A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655-85DD-4B95-97B8-A0F78327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8C4-2C5A-457F-94F8-43BB999A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DA4-697D-4154-AC70-F46303E7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64A-325C-4317-B9C1-BF296B99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66B-ECFC-483F-9985-B4599101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200-5ADD-4418-842D-16C7A8B6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8CDF6-3963-4EA7-B6B2-AC2DEC9C9B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