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99936"/>
        <c:axId val="27921590"/>
      </c:barChart>
      <c:catAx>
        <c:axId val="24899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21590"/>
        <c:crosses val="autoZero"/>
        <c:auto val="1"/>
        <c:lblAlgn val="ctr"/>
        <c:lblOffset val="100"/>
        <c:noMultiLvlLbl val="0"/>
      </c:catAx>
      <c:valAx>
        <c:axId val="27921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99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DC8-9178-4B61-B91D-AD3671E0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ADD-7BE1-4B7D-8E14-7082F36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B85-3EA2-43FC-9423-CE59AF5D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33D-C609-4B0D-B068-80140DD8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DFA-7C6E-49B7-8361-335A4A7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9E0-4962-4F9C-8EFC-8696D16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C80-0898-427F-A1A3-7E32377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202-B675-4053-8B53-98D38351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069-0B65-4882-83F9-B1564C5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D38-FB13-40B6-BEAD-B5B7A4A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C08-D059-4F03-8E4F-1261772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727-46F0-41D9-926E-F6AD0E2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320CB-F526-40CD-926B-5F82C80FB6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