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69478"/>
        <c:axId val="96214624"/>
      </c:barChart>
      <c:catAx>
        <c:axId val="21169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14624"/>
        <c:crosses val="autoZero"/>
        <c:auto val="1"/>
        <c:lblAlgn val="ctr"/>
        <c:lblOffset val="100"/>
        <c:noMultiLvlLbl val="0"/>
      </c:catAx>
      <c:valAx>
        <c:axId val="96214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69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4E9-A5C7-43AD-A92F-1D7D6577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2C5-8BDE-445C-92E6-80B60ED0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293-7E99-4109-AFBF-25C14E6A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963-1EC5-405E-8BAC-3CFBBB8E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129-65D0-47AF-86AB-8E26DF27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5A8-10F8-47E6-925F-2E6E7F2A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83F-E515-482A-AF4D-5B93CC41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63D-5F6F-44C8-8B58-40CF8458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915-BE61-4EA3-A041-82C70C8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5F2-D8D8-4438-953E-2F26AC9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15A-088F-4C1C-8B7C-4EFFE9E0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E4F-6694-4D34-ACF8-B9BC9966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0E463-349B-4AB5-A493-89FF9E5B5E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