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05092"/>
        <c:axId val="88246556"/>
      </c:barChart>
      <c:catAx>
        <c:axId val="93505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46556"/>
        <c:crosses val="autoZero"/>
        <c:auto val="1"/>
        <c:lblAlgn val="ctr"/>
        <c:lblOffset val="100"/>
        <c:noMultiLvlLbl val="0"/>
      </c:catAx>
      <c:valAx>
        <c:axId val="88246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05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05F-208C-4060-B81D-A5667E4C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F47-DE2E-4F45-B236-066633CB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08A-FBAF-49B2-BE68-029BA328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EC3-58B5-4E1B-B40B-9CD444EF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839-460F-4549-804C-0F4B217C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DD4-BDA3-438F-9C05-B191C24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C56-CC51-4BF6-AF31-F9C07CAA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C2D-67ED-4733-9973-5855C03E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674-F5BA-4940-8848-BA258BC4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659-4C00-4E7F-8CBE-4704B8C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F42-0202-422E-BC1F-56A8A52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7C7-A308-401D-B98B-F7C9632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67CE5-050C-42AD-AF4B-200CF500A4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