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24149"/>
        <c:axId val="7097225"/>
      </c:barChart>
      <c:catAx>
        <c:axId val="39724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7225"/>
        <c:crosses val="autoZero"/>
        <c:auto val="1"/>
        <c:lblAlgn val="ctr"/>
        <c:lblOffset val="100"/>
        <c:noMultiLvlLbl val="0"/>
      </c:catAx>
      <c:valAx>
        <c:axId val="7097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24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DB1-F3E2-47D5-9850-9BE28556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22E-063E-4313-BFFC-1AC7B918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079-A764-4B8D-99A8-BBC32528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E3D-01BA-45F0-A3D9-1AC9DDEE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23C-0BE3-4771-A3D5-35BC3AEB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D76-F4E7-46B2-B148-FC74953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958-86DB-4987-B65D-A2A5E1C7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420-8C1B-4DF1-AFFC-00D4D4F8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A80-04F6-4780-B66E-213B4327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35D-9903-43FA-AC3F-BD59A90D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7A9-C093-4016-8CE5-89103CA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987-43DB-4487-B35A-106CB56C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08135-DDB2-4268-8E3D-2AD1F5A765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