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62771"/>
        <c:axId val="26158126"/>
      </c:barChart>
      <c:catAx>
        <c:axId val="60062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58126"/>
        <c:crosses val="autoZero"/>
        <c:auto val="1"/>
        <c:lblAlgn val="ctr"/>
        <c:lblOffset val="100"/>
        <c:noMultiLvlLbl val="0"/>
      </c:catAx>
      <c:valAx>
        <c:axId val="26158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62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466-F82E-4971-863B-1263287B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832-3BCB-4DB5-A4A1-7B33D5D2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89B-1965-4033-ADDC-69E8C11B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D5F-9D5F-49F4-8AF4-52F58C8E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FAE-23BD-4746-8505-38634424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3B3-09DB-4D32-A0D6-449CC5C3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2BF-F8DB-49CE-A7A6-D6B860FB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933-F83C-41A0-B3BC-3DC94974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EB3-8A01-4D77-918A-4272ED17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CE6-3E90-4AD2-AA1E-EEB9AC8F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7FB-C1EA-4F93-B725-6D2F9A39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074-0538-4FBE-B9E7-399E6462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33450-2DB5-4EF3-8613-1A1B6489EE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